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22.wmf" ContentType="image/x-wmf"/>
  <Override PartName="/ppt/media/image5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CECC-301A-4C46-859D-567FBCB1B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D809-6D3E-4898-BA83-5A7B88C6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4C0B-2B78-4763-B6CC-7FE8061B9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EF8F-57F2-4675-AE0C-AD03464B6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F2102-07B2-4949-B551-F16E710FA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F0553-C764-4F2B-A9FF-051F93C85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6C08A-A30F-4501-BD43-FC47977DD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60A0B-E959-46E4-BC83-959A32424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F8505-1365-452C-ABC4-1E30927EA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2915A-1114-45ED-B8E3-E44FC018B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FBBCE-D1D6-4E65-B07E-0515EF87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D483-009D-48D0-A294-C071498EC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32C27-3CC9-4726-AC3B-B2A12C9C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1D817-3858-421C-8C0A-9BBB6D63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01C63-3A1D-4517-B60E-BC03DFF5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B3C07-6C46-48CF-939B-158FE18D6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997FB-1269-471D-B54C-4596B7C31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653B2-F524-452D-909C-051406D49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4B8C8-A6E2-4B2A-B924-9542DB8BA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B9CBB-9C34-4428-BC99-2BFB396D2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7967D-0B98-4316-881F-3DD6CB364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B56D4-8871-4AF8-BB9B-0D21DD98B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7BF3-FE7C-4991-9978-E9BE224C3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BC48F-5C91-446F-9F45-7E32B2C24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54F88-1D55-4E39-B315-B60E95E5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2E1C2-0FE4-4A8A-9F4B-884AF841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1DD23-715C-4981-84AC-2BBAC2B2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F8BA3-FEB8-443F-9EC1-5EBBB8A63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6ACCA-601A-4432-9B3F-B236A66D0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AAAD9-C6B2-4123-AF24-16C112BDE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E95BD-DEB7-47BC-8802-A45C5D691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9B51B-6B08-4B23-85F9-306DA2D7E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49EFD-801A-4571-95CB-DB4472069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9046-E2E5-471C-A033-8446E691B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CA947-469E-4735-84AB-45B179C0C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94907-B3A9-487A-9FBC-014BDE24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136DB-A785-4DB9-9627-F2DA150B3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FB6DF-9173-4411-86AD-A537EDAC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C87B5-D81D-43E3-92A2-21B7EA9B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5F9CD-E6C3-4E19-B502-6CF3F184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E836C-E383-4B3C-B183-D8206E272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D9B45-05DA-46F1-A5DE-0CD1D4F5B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0F66A-79E0-4663-A2E8-DEFCA35DF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86B0-EF05-4A7E-85DF-C63A61E8B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5FED-11B1-4A65-8C25-4D3BB2334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127D-10C9-42F4-9461-5FA3376C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80D6-1C22-4DCD-94A3-58154E9F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6985-17EF-4579-A19B-77D26EA2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5C10F-0B27-4BBD-B148-2AC374FB769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F6CE9-64B3-42C3-93E2-317BC9CE79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Group 7"/>
          <p:cNvGrpSpPr/>
          <p:nvPr/>
        </p:nvGrpSpPr>
        <p:grpSpPr>
          <a:xfrm>
            <a:off x="0" y="152280"/>
            <a:ext cx="1784520" cy="1246320"/>
            <a:chOff x="0" y="152280"/>
            <a:chExt cx="1784520" cy="1246320"/>
          </a:xfrm>
        </p:grpSpPr>
        <p:sp>
          <p:nvSpPr>
            <p:cNvPr id="93" name="Freeform 8"/>
            <p:cNvSpPr/>
            <p:nvPr/>
          </p:nvSpPr>
          <p:spPr>
            <a:xfrm>
              <a:off x="30240" y="17604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9"/>
            <p:cNvSpPr/>
            <p:nvPr/>
          </p:nvSpPr>
          <p:spPr>
            <a:xfrm>
              <a:off x="1614600" y="298440"/>
              <a:ext cx="112680" cy="204480"/>
            </a:xfrm>
            <a:prstGeom prst="pi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0"/>
            <p:cNvSpPr/>
            <p:nvPr/>
          </p:nvSpPr>
          <p:spPr>
            <a:xfrm>
              <a:off x="23760" y="603000"/>
              <a:ext cx="1257480" cy="650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1"/>
            <p:cNvSpPr/>
            <p:nvPr/>
          </p:nvSpPr>
          <p:spPr>
            <a:xfrm>
              <a:off x="196920" y="657000"/>
              <a:ext cx="833400" cy="5936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2"/>
            <p:cNvSpPr/>
            <p:nvPr/>
          </p:nvSpPr>
          <p:spPr>
            <a:xfrm>
              <a:off x="762120" y="218880"/>
              <a:ext cx="214200" cy="192240"/>
            </a:xfrm>
            <a:prstGeom prst="pi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3"/>
            <p:cNvSpPr/>
            <p:nvPr/>
          </p:nvSpPr>
          <p:spPr>
            <a:xfrm>
              <a:off x="1009800" y="1220760"/>
              <a:ext cx="120600" cy="177840"/>
            </a:xfrm>
            <a:prstGeom prst="pi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4"/>
            <p:cNvSpPr/>
            <p:nvPr/>
          </p:nvSpPr>
          <p:spPr>
            <a:xfrm>
              <a:off x="792360" y="338040"/>
              <a:ext cx="306360" cy="6080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5"/>
            <p:cNvSpPr/>
            <p:nvPr/>
          </p:nvSpPr>
          <p:spPr>
            <a:xfrm>
              <a:off x="1052640" y="311040"/>
              <a:ext cx="577800" cy="2761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6"/>
            <p:cNvSpPr/>
            <p:nvPr/>
          </p:nvSpPr>
          <p:spPr>
            <a:xfrm>
              <a:off x="542880" y="474480"/>
              <a:ext cx="247680" cy="106560"/>
            </a:xfrm>
            <a:prstGeom prst="pi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17"/>
            <p:cNvGrpSpPr/>
            <p:nvPr/>
          </p:nvGrpSpPr>
          <p:grpSpPr>
            <a:xfrm>
              <a:off x="0" y="152280"/>
              <a:ext cx="1784520" cy="1238400"/>
              <a:chOff x="0" y="152280"/>
              <a:chExt cx="1784520" cy="1238400"/>
            </a:xfrm>
          </p:grpSpPr>
          <p:grpSp>
            <p:nvGrpSpPr>
              <p:cNvPr id="103" name="Group 18"/>
              <p:cNvGrpSpPr/>
              <p:nvPr/>
            </p:nvGrpSpPr>
            <p:grpSpPr>
              <a:xfrm>
                <a:off x="784080" y="266400"/>
                <a:ext cx="870120" cy="1124280"/>
                <a:chOff x="784080" y="266400"/>
                <a:chExt cx="870120" cy="1124280"/>
              </a:xfrm>
            </p:grpSpPr>
            <p:sp>
              <p:nvSpPr>
                <p:cNvPr id="104" name="Freeform 19"/>
                <p:cNvSpPr/>
                <p:nvPr/>
              </p:nvSpPr>
              <p:spPr>
                <a:xfrm>
                  <a:off x="784080" y="306360"/>
                  <a:ext cx="249480" cy="137880"/>
                </a:xfrm>
                <a:prstGeom prst="pie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Freeform 20"/>
                <p:cNvSpPr/>
                <p:nvPr/>
              </p:nvSpPr>
              <p:spPr>
                <a:xfrm>
                  <a:off x="1001880" y="1179360"/>
                  <a:ext cx="182520" cy="211320"/>
                </a:xfrm>
                <a:prstGeom prst="pie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Freeform 21"/>
                <p:cNvSpPr/>
                <p:nvPr/>
              </p:nvSpPr>
              <p:spPr>
                <a:xfrm>
                  <a:off x="1585800" y="266400"/>
                  <a:ext cx="68400" cy="185760"/>
                </a:xfrm>
                <a:prstGeom prst="pie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" name="Freeform 22"/>
              <p:cNvSpPr/>
              <p:nvPr/>
            </p:nvSpPr>
            <p:spPr>
              <a:xfrm>
                <a:off x="112680" y="536400"/>
                <a:ext cx="944640" cy="397080"/>
              </a:xfrm>
              <a:prstGeom prst="pi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23"/>
              <p:cNvSpPr/>
              <p:nvPr/>
            </p:nvSpPr>
            <p:spPr>
              <a:xfrm>
                <a:off x="405000" y="780840"/>
                <a:ext cx="387360" cy="235080"/>
              </a:xfrm>
              <a:prstGeom prst="pi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24"/>
              <p:cNvSpPr/>
              <p:nvPr/>
            </p:nvSpPr>
            <p:spPr>
              <a:xfrm>
                <a:off x="888840" y="453960"/>
                <a:ext cx="169920" cy="377640"/>
              </a:xfrm>
              <a:prstGeom prst="pi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" name="Group 25"/>
              <p:cNvGrpSpPr/>
              <p:nvPr/>
            </p:nvGrpSpPr>
            <p:grpSpPr>
              <a:xfrm>
                <a:off x="0" y="152280"/>
                <a:ext cx="1784520" cy="1076400"/>
                <a:chOff x="0" y="152280"/>
                <a:chExt cx="1784520" cy="1076400"/>
              </a:xfrm>
            </p:grpSpPr>
            <p:sp>
              <p:nvSpPr>
                <p:cNvPr id="111" name="Freeform 26"/>
                <p:cNvSpPr/>
                <p:nvPr/>
              </p:nvSpPr>
              <p:spPr>
                <a:xfrm>
                  <a:off x="1054080" y="1038240"/>
                  <a:ext cx="119160" cy="137880"/>
                </a:xfrm>
                <a:prstGeom prst="pie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Freeform 27"/>
                <p:cNvSpPr/>
                <p:nvPr/>
              </p:nvSpPr>
              <p:spPr>
                <a:xfrm>
                  <a:off x="0" y="529920"/>
                  <a:ext cx="1336680" cy="698760"/>
                </a:xfrm>
                <a:prstGeom prst="pie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Freeform 28"/>
                <p:cNvSpPr/>
                <p:nvPr/>
              </p:nvSpPr>
              <p:spPr>
                <a:xfrm>
                  <a:off x="160200" y="596880"/>
                  <a:ext cx="127080" cy="264960"/>
                </a:xfrm>
                <a:prstGeom prst="pie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29"/>
                <p:cNvSpPr/>
                <p:nvPr/>
              </p:nvSpPr>
              <p:spPr>
                <a:xfrm>
                  <a:off x="704880" y="152280"/>
                  <a:ext cx="511200" cy="942840"/>
                </a:xfrm>
                <a:prstGeom prst="pie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Freeform 30"/>
                <p:cNvSpPr/>
                <p:nvPr/>
              </p:nvSpPr>
              <p:spPr>
                <a:xfrm>
                  <a:off x="909720" y="406080"/>
                  <a:ext cx="152280" cy="400320"/>
                </a:xfrm>
                <a:prstGeom prst="pie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Freeform 31"/>
                <p:cNvSpPr/>
                <p:nvPr/>
              </p:nvSpPr>
              <p:spPr>
                <a:xfrm>
                  <a:off x="512640" y="374400"/>
                  <a:ext cx="309600" cy="214560"/>
                </a:xfrm>
                <a:prstGeom prst="pie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Freeform 32"/>
                <p:cNvSpPr/>
                <p:nvPr/>
              </p:nvSpPr>
              <p:spPr>
                <a:xfrm>
                  <a:off x="1036800" y="228600"/>
                  <a:ext cx="747720" cy="336240"/>
                </a:xfrm>
                <a:prstGeom prst="pie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Freeform 33"/>
                <p:cNvSpPr/>
                <p:nvPr/>
              </p:nvSpPr>
              <p:spPr>
                <a:xfrm>
                  <a:off x="1130400" y="336240"/>
                  <a:ext cx="388800" cy="136800"/>
                </a:xfrm>
                <a:prstGeom prst="pie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809EA-1894-412B-A89B-63FBEBDD3D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98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02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7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208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212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B3524-1268-467F-8745-DBF83F9588B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ffb80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Do Limits Have To Do With Calculu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Unlimited Review of Limi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1000" fill="hold"/>
                                        <p:tgtEl>
                                          <p:spTgt spid="2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6870600" cy="838440"/>
          </a:xfrm>
          <a:prstGeom prst="rect">
            <a:avLst/>
          </a:prstGeom>
          <a:gradFill rotWithShape="0">
            <a:gsLst>
              <a:gs pos="0">
                <a:srgbClr val="ab8d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Comic Sans MS"/>
              </a:rPr>
              <a:t>Try Thes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952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 not use your calculator for thes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3048120" y="2286000"/>
          <a:ext cx="292248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286000"/>
                    <a:ext cx="29224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5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6870600" cy="1295280"/>
          </a:xfrm>
          <a:prstGeom prst="rect">
            <a:avLst/>
          </a:prstGeom>
          <a:gradFill rotWithShape="0">
            <a:gsLst>
              <a:gs pos="0">
                <a:srgbClr val="00b2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66"/>
                </a:solidFill>
                <a:latin typeface="Comic Sans MS"/>
              </a:rPr>
              <a:t>Evaluating Limits Numericall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y looking at a graph’s table of data, we can determine the limit of the functio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t’s look at Example 4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1828800" y="3352680"/>
          <a:ext cx="4495680" cy="655920"/>
        </p:xfrm>
        <a:graphic>
          <a:graphicData uri="http://schemas.openxmlformats.org/drawingml/2006/table">
            <a:tbl>
              <a:tblPr/>
              <a:tblGrid>
                <a:gridCol w="555480"/>
                <a:gridCol w="554040"/>
                <a:gridCol w="795600"/>
                <a:gridCol w="685800"/>
                <a:gridCol w="609480"/>
                <a:gridCol w="762120"/>
                <a:gridCol w="533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.9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.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(x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4.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4.94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4.9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.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.06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.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4" name="Text Box 61"/>
          <p:cNvSpPr/>
          <p:nvPr/>
        </p:nvSpPr>
        <p:spPr>
          <a:xfrm>
            <a:off x="609480" y="4267080"/>
            <a:ext cx="556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m the above data, estimate the value of the following limit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6172200" y="4191120"/>
          <a:ext cx="1754280" cy="23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4191120"/>
                    <a:ext cx="175428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40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7" name=""/>
          <p:cNvGraphicFramePr/>
          <p:nvPr/>
        </p:nvGraphicFramePr>
        <p:xfrm>
          <a:off x="990720" y="1143000"/>
          <a:ext cx="4495680" cy="655560"/>
        </p:xfrm>
        <a:graphic>
          <a:graphicData uri="http://schemas.openxmlformats.org/drawingml/2006/table">
            <a:tbl>
              <a:tblPr/>
              <a:tblGrid>
                <a:gridCol w="555480"/>
                <a:gridCol w="554040"/>
                <a:gridCol w="795240"/>
                <a:gridCol w="685800"/>
                <a:gridCol w="609840"/>
                <a:gridCol w="761760"/>
                <a:gridCol w="5335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.9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3.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3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(x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-4.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-4.94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-4.9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5.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5.06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5.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1219320" y="2133720"/>
          <a:ext cx="7238880" cy="325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133720"/>
                    <a:ext cx="7238880" cy="32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6870960" cy="8380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Comic Sans MS"/>
              </a:rPr>
              <a:t>Properties of Lim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426708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f c, k, R, S, U, and V are finite numbers and i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066680" y="1676520"/>
          <a:ext cx="6245280" cy="40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676520"/>
                    <a:ext cx="624528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990720" y="2286000"/>
          <a:ext cx="6710400" cy="265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2286000"/>
                    <a:ext cx="6710400" cy="26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500"/>
                            </p:stCondLst>
                            <p:childTnLst>
                              <p:par>
                                <p:cTn id="2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5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6870600" cy="9144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Comic Sans MS"/>
              </a:rPr>
              <a:t>Special Lim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0" y="0"/>
          <a:ext cx="914400" cy="19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"/>
          <p:cNvGraphicFramePr/>
          <p:nvPr/>
        </p:nvGraphicFramePr>
        <p:xfrm>
          <a:off x="1600200" y="1828800"/>
          <a:ext cx="5541840" cy="3452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1828800"/>
                    <a:ext cx="5541840" cy="34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6870600" cy="7617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Comic Sans MS"/>
              </a:rPr>
              <a:t>Rational Function Theorem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981080" y="2590920"/>
            <a:ext cx="236232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sing the fact that…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4267080" y="2286000"/>
          <a:ext cx="1600200" cy="82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2286000"/>
                    <a:ext cx="160020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Text Box 6"/>
          <p:cNvSpPr/>
          <p:nvPr/>
        </p:nvSpPr>
        <p:spPr>
          <a:xfrm>
            <a:off x="1295280" y="15238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e can determine the limit of a quotient of polynomials (rational func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1828800" y="3124080"/>
          <a:ext cx="6705720" cy="304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3124080"/>
                    <a:ext cx="6705720" cy="30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35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6870600" cy="8380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Comic Sans MS"/>
              </a:rPr>
              <a:t>Try Thes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2971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o not use your calculato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0" y="0"/>
          <a:ext cx="914400" cy="19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"/>
          <p:cNvGraphicFramePr/>
          <p:nvPr/>
        </p:nvGraphicFramePr>
        <p:xfrm>
          <a:off x="399960" y="14400"/>
          <a:ext cx="114480" cy="16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960" y="14400"/>
                    <a:ext cx="114480" cy="16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"/>
          <p:cNvGraphicFramePr/>
          <p:nvPr/>
        </p:nvGraphicFramePr>
        <p:xfrm>
          <a:off x="399960" y="14400"/>
          <a:ext cx="114480" cy="164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9960" y="14400"/>
                    <a:ext cx="114480" cy="16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"/>
          <p:cNvGraphicFramePr/>
          <p:nvPr/>
        </p:nvGraphicFramePr>
        <p:xfrm>
          <a:off x="0" y="0"/>
          <a:ext cx="914400" cy="193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0"/>
                    <a:ext cx="914400" cy="1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8" name=""/>
          <p:cNvGraphicFramePr/>
          <p:nvPr/>
        </p:nvGraphicFramePr>
        <p:xfrm>
          <a:off x="3733920" y="1752480"/>
          <a:ext cx="1968480" cy="4724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33920" y="1752480"/>
                    <a:ext cx="196848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0" name=""/>
          <p:cNvGraphicFramePr/>
          <p:nvPr/>
        </p:nvGraphicFramePr>
        <p:xfrm>
          <a:off x="2286000" y="228600"/>
          <a:ext cx="3552840" cy="624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28600"/>
                    <a:ext cx="355284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2" name=""/>
          <p:cNvGraphicFramePr/>
          <p:nvPr/>
        </p:nvGraphicFramePr>
        <p:xfrm>
          <a:off x="3048120" y="457200"/>
          <a:ext cx="284004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457200"/>
                    <a:ext cx="284004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Text Box 5"/>
          <p:cNvSpPr/>
          <p:nvPr/>
        </p:nvSpPr>
        <p:spPr>
          <a:xfrm>
            <a:off x="2438280" y="56386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_x0010__x0010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5900760" cy="770040"/>
          </a:xfrm>
          <a:prstGeom prst="rect">
            <a:avLst/>
          </a:prstGeom>
          <a:gradFill rotWithShape="0">
            <a:gsLst>
              <a:gs pos="0">
                <a:srgbClr val="fff8b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b800"/>
                </a:solidFill>
                <a:latin typeface="Comic Sans MS"/>
              </a:rPr>
              <a:t>Definition of a Limi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18800" y="1828440"/>
            <a:ext cx="7257960" cy="35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implest way to understand a limit of a function is by looking at it graphicall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sume we’re looking at this function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’s see what its graph looks like and what happens as x approaches 2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3276720" y="3581280"/>
          <a:ext cx="1752480" cy="63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3581280"/>
                    <a:ext cx="175248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500"/>
                            </p:stCondLst>
                            <p:childTnLst>
                              <p:par>
                                <p:cTn id="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5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5" descr="2X-1"/>
          <p:cNvPicPr/>
          <p:nvPr/>
        </p:nvPicPr>
        <p:blipFill>
          <a:blip r:embed="rId1"/>
          <a:stretch/>
        </p:blipFill>
        <p:spPr>
          <a:xfrm>
            <a:off x="2438280" y="914400"/>
            <a:ext cx="4191120" cy="262260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6"/>
          <p:cNvSpPr/>
          <p:nvPr/>
        </p:nvSpPr>
        <p:spPr>
          <a:xfrm>
            <a:off x="4724280" y="23623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4114800" y="13716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6629400" y="2209680"/>
            <a:ext cx="3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990720" y="3886200"/>
            <a:ext cx="723888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t appears as the x-coordinates get closer and closer to 2, the y-coordinates get closer and closer to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e can say that the limit of this function is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mic Sans MS"/>
              </a:rPr>
              <a:t>A limit is the value a function, f(x), approaches as the variable within that                         function gets nearer and nearer to a particular value, x</a:t>
            </a:r>
            <a:r>
              <a:rPr b="1" lang="en-US" sz="1200" spc="-1" strike="noStrike">
                <a:solidFill>
                  <a:srgbClr val="703dff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4191120" y="19051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1"/>
          <p:cNvSpPr/>
          <p:nvPr/>
        </p:nvSpPr>
        <p:spPr>
          <a:xfrm>
            <a:off x="4876920" y="1981080"/>
            <a:ext cx="75960" cy="15264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2"/>
          <p:cNvSpPr/>
          <p:nvPr/>
        </p:nvSpPr>
        <p:spPr>
          <a:xfrm>
            <a:off x="3657600" y="2590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4"/>
          <p:cNvSpPr/>
          <p:nvPr/>
        </p:nvSpPr>
        <p:spPr>
          <a:xfrm>
            <a:off x="4343400" y="1371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43"/>
          <p:cNvSpPr/>
          <p:nvPr/>
        </p:nvSpPr>
        <p:spPr>
          <a:xfrm>
            <a:off x="4800600" y="2362320"/>
            <a:ext cx="228600" cy="3045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5"/>
          <p:cNvSpPr/>
          <p:nvPr/>
        </p:nvSpPr>
        <p:spPr>
          <a:xfrm flipH="1">
            <a:off x="6248160" y="2590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44"/>
          <p:cNvSpPr/>
          <p:nvPr/>
        </p:nvSpPr>
        <p:spPr>
          <a:xfrm flipV="1">
            <a:off x="4343400" y="2819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38584E-006 L -0.12916 4.38584E-006 E">
                                      <p:cBhvr>
                                        <p:cTn id="42" dur="20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38584E-006 L 0.0875 4.38584E-006 E">
                                      <p:cBhvr>
                                        <p:cTn id="44" dur="2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60791E-006 L 0 0.06663 E">
                                      <p:cBhvr>
                                        <p:cTn id="46" dur="20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9.16031E-007 L 0 -0.08327 E">
                                      <p:cBhvr>
                                        <p:cTn id="48" dur="2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7000"/>
                            </p:stCondLst>
                            <p:childTnLst>
                              <p:par>
                                <p:cTn id="5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" dur="30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6870600" cy="1371600"/>
          </a:xfrm>
          <a:prstGeom prst="rect">
            <a:avLst/>
          </a:prstGeom>
          <a:gradFill rotWithShape="0">
            <a:gsLst>
              <a:gs pos="0">
                <a:srgbClr val="ab8d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Evaluating Limits Analyticall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68580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metimes looking at a graph is not possible, so you need to have other ways to find a limi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53800" indent="-2538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 can evaluate limits analytically using algebraic techniques. These ar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549720" indent="-211320">
              <a:spcBef>
                <a:spcPts val="601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ubstitu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49720" indent="-211320">
              <a:spcBef>
                <a:spcPts val="601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Factoring (simplifying the expression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49720" indent="-211320">
              <a:spcBef>
                <a:spcPts val="601"/>
              </a:spcBef>
              <a:buClr>
                <a:srgbClr val="ab8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b8dff"/>
                </a:solidFill>
                <a:latin typeface="Comic Sans MS"/>
              </a:rPr>
              <a:t>Rationalizing the numerator or denominator (conjugate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5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5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65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18960" y="533520"/>
            <a:ext cx="5715000" cy="761760"/>
          </a:xfrm>
          <a:prstGeom prst="rect">
            <a:avLst/>
          </a:prstGeom>
          <a:gradFill rotWithShape="0">
            <a:gsLst>
              <a:gs pos="0">
                <a:srgbClr val="ab8d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Comic Sans MS"/>
              </a:rPr>
              <a:t>Substit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3915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Example 1: Evaluate the following limit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: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2666880" y="2438280"/>
          <a:ext cx="2514600" cy="63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438280"/>
                    <a:ext cx="251460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Text Box 13"/>
          <p:cNvSpPr/>
          <p:nvPr/>
        </p:nvSpPr>
        <p:spPr>
          <a:xfrm>
            <a:off x="1447920" y="3200400"/>
            <a:ext cx="59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tice that you can substitute x = 2 into the function to get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– 4 *2 + 9 = 5.  Therefore, the limit of this function as x approaches 2 is 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4"/>
          <p:cNvSpPr/>
          <p:nvPr/>
        </p:nvSpPr>
        <p:spPr>
          <a:xfrm>
            <a:off x="1143000" y="44197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y this o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3048120" y="4876920"/>
          <a:ext cx="2170080" cy="101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4876920"/>
                    <a:ext cx="2170080" cy="101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5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7000"/>
                            </p:stCondLst>
                            <p:childTnLst>
                              <p:par>
                                <p:cTn id="11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8" name=""/>
          <p:cNvGraphicFramePr/>
          <p:nvPr/>
        </p:nvGraphicFramePr>
        <p:xfrm>
          <a:off x="1981080" y="533520"/>
          <a:ext cx="4343400" cy="367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533520"/>
                    <a:ext cx="4343400" cy="36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Text Box 5"/>
          <p:cNvSpPr/>
          <p:nvPr/>
        </p:nvSpPr>
        <p:spPr>
          <a:xfrm>
            <a:off x="1905120" y="4800600"/>
            <a:ext cx="601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w, if all limits were this easy, you would have worked with them in Algebra I, b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8" dur="3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3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4953240" cy="762120"/>
          </a:xfrm>
          <a:prstGeom prst="rect">
            <a:avLst/>
          </a:prstGeom>
          <a:gradFill rotWithShape="0">
            <a:gsLst>
              <a:gs pos="0">
                <a:srgbClr val="ab8d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Comic Sans MS"/>
              </a:rPr>
              <a:t>Facto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metimes substitution just doesn’t work.  Let’s look at Example 2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2971800" y="2438280"/>
          <a:ext cx="2743200" cy="81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2438280"/>
                    <a:ext cx="274320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Text Box 5"/>
          <p:cNvSpPr/>
          <p:nvPr/>
        </p:nvSpPr>
        <p:spPr>
          <a:xfrm>
            <a:off x="1371600" y="3352680"/>
            <a:ext cx="64008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f you tried using substitution, the result would be 0/0. The technical term for a result of 0/0 is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indeterminat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which means that you cannot determine the limit using this metho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hat can we do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ply do what the title of this slide says: Factor!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2286000" y="5486400"/>
          <a:ext cx="5334120" cy="75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5486400"/>
                    <a:ext cx="533412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5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950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15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3500"/>
                            </p:stCondLst>
                            <p:childTnLst>
                              <p:par>
                                <p:cTn id="16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2" dur="20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50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6870600" cy="838440"/>
          </a:xfrm>
          <a:prstGeom prst="rect">
            <a:avLst/>
          </a:prstGeom>
          <a:gradFill rotWithShape="0">
            <a:gsLst>
              <a:gs pos="0">
                <a:srgbClr val="ab8d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Comic Sans MS"/>
              </a:rPr>
              <a:t>Using Conjug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last limit evaluation method attacks the radical expression in limit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makes applying the conjugate method rather eas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t’s evaluate Example 3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0" y="0"/>
          <a:ext cx="914400" cy="19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3276720" y="5181480"/>
          <a:ext cx="2819160" cy="121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5181480"/>
                    <a:ext cx="2819160" cy="12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3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30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500"/>
                            </p:stCondLst>
                            <p:childTnLst>
                              <p:par>
                                <p:cTn id="1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3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6"/>
          <p:cNvSpPr/>
          <p:nvPr/>
        </p:nvSpPr>
        <p:spPr>
          <a:xfrm>
            <a:off x="457200" y="685800"/>
            <a:ext cx="609588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f you tried substitution, it will result in the indeterminate answer 0/0, and factoring isn’t very helpfu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evaluate this limit, multiply the fraction by the conjugate of the radical expression.  But remember you need to multiply by 1, so you must multiply by the conjugate/itse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t’s look at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2057400" y="3276720"/>
          <a:ext cx="6477120" cy="306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3276720"/>
                    <a:ext cx="6477120" cy="30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0T02:38:45Z</dcterms:created>
  <dc:creator>Kathy Biga</dc:creator>
  <dc:description/>
  <dc:language>en-US</dc:language>
  <cp:lastModifiedBy>SHS</cp:lastModifiedBy>
  <cp:lastPrinted>2011-06-01T13:14:27Z</cp:lastPrinted>
  <dcterms:modified xsi:type="dcterms:W3CDTF">2011-06-20T12:34:27Z</dcterms:modified>
  <cp:revision>57</cp:revision>
  <dc:subject/>
  <dc:title>What’s Limits Have To Do With Calculus</dc:title>
</cp:coreProperties>
</file>